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B41E-6FF2-4633-97E2-43810D36898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C2B9-189A-4D23-88F3-8A1E7BCA720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E566-23FF-4669-8591-0D9670F61BA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vodi se za gradilište u cjelini, a ako se u okviru gradilišta grade objekti koji su prostorno izdvojeni, predstavljaju nezavisnu funkcionalnu cjelinu i zahtijevaju specifičnu organizaciju građenja, građevinska knjiga se može za takve objekte voditi izdvoje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avo upisivanja odgovarajućih podataka i zapažanja u građevinsku knjigu imaju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predstavnik investitora. U građevinskoj knjizi ne smije biti ništa brisano već se svaka ispravka vrši povlačenjem crte preko pogrešnog i dopisivanja tačn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 građevinske knjige čuva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kopiju predstavnik investitora, za sve vrijeme građenja objek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3367-AFDA-4AB3-9C5A-908436FA71E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vodi se za gradilište u cjelini, a ako se u okviru gradilišta grade objekti koji su prostorno izdvojeni, predstavljaju nezavisnu funkcionalnu cjelinu i zahtijevaju specifičnu organizaciju građenja, građevinska knjiga se može za takve objekte voditi izdvoje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avo upisivanja odgovarajućih podataka i zapažanja u građevinsku knjigu imaju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predstavnik investitora. U građevinskoj knjizi ne smije biti ništa brisano već se svaka ispravka vrši povlačenjem crte preko pogrešnog i dopisivanja tačn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 građevinske knjige čuva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kopiju predstavnik investitora, za sve vrijeme građenja objek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299F-BD44-4423-9F60-4D79FACECD1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FD76-6D59-4DB5-B60F-57520C80E17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a lokacijama na kojima se grade objekti koji predstavljaju zaokruženu funkcionalnu cjelinu (objekti kao što su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veći turistički kompleksi, industrijski objekti, proizvodni sistemi i sl.), koje su obuhvaćene planskim dokumentom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za koji je urađena strateška procjena uticaja na životnu sredinu, Elaboratom se može obuhvatiti i područje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eophodno za cjelovito infrastrukturno opremanje prostora, za koje investitor ima pravo svojine, odnosno drugo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ravo na građevinskom zemljištu na kome se izvode pripremni radovi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3536-7104-4126-860E-ADBF0F1A77A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vaj pravilnik važi za domaća, ali i za strana lica, u skladu sa Zakon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DD36-F899-4975-9393-663AD393C33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BD09-528A-4839-9CE9-F1D43BE136F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FC21-A35F-4780-866B-905E70994C7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FD82-A1DA-448D-996B-22542315CF4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A60D-AB00-448E-9BFC-74BE9965235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900" spc="-1" strike="noStrike">
                <a:solidFill>
                  <a:srgbClr val="000000"/>
                </a:solidFill>
                <a:latin typeface="Arial"/>
              </a:rPr>
              <a:t>zakonom je propisano oduzimanje licenc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Oduzimanje licence (</a:t>
            </a:r>
            <a:r>
              <a:rPr b="0" lang="sr-Latn-ME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arstvo po službenoj dužnosti, ili na zahtjev zainteresovanog lica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) i obavještavanje nadležnog inspekcijskog organa, ako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djelatnost vrši suprotno </a:t>
            </a:r>
            <a:r>
              <a:rPr b="0" lang="sr-Latn-ME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uslovima propisanim zakonom za obavljanje djelatnosti –oduzima se na period od 3 mjeseca do 5 godina, a trajno za revidenta, stručni nadzor i revizo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se utvrdi da je licenca izdata na osnovu netačnih podatak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restane da ispunjava uslove za obavljanje djelatnosti utvrđene ovim zakonom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ocu licence bude oduzeta poslovna sposobno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restane da postoji po sili zakona, 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ostane trajno nesposoban za obavljanje poslo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63F2-0421-4785-9FCF-FDD78A849CC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650D-72FC-44DC-BA24-6673C522E0C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C3C9-84FE-4406-9CDE-2F648F5C9B7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7206-088F-4583-ABE9-BB640C44072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EC6E-237E-4A4C-AA59-9A69095C2C8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C743-1F5C-4368-95D4-55E6A1C66B1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7920-EB69-4EFD-BE3A-3A3D37D951D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5956-DC6D-4CF8-89CE-43905B409FC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AE5B-9712-4615-A0C7-A6558C397AD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6EA6-8627-4A3D-87D0-67DE7F7D34A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6121440" cy="6840720"/>
          </a:xfrm>
          <a:prstGeom prst="rect">
            <a:avLst/>
          </a:prstGeom>
          <a:noFill/>
          <a:ln w="0">
            <a:noFill/>
          </a:ln>
        </p:spPr>
        <p:txBody>
          <a:bodyPr lIns="2520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vakodnevno unosi u građevinski dnevni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datum unošenja podatak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vremenske prilike (temperatura, padavine i sl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radno vrijem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) angažovanu radnu snagu i mehanizaciju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) druge okolnosti pod kojima se izvode radovi, a od značaja su za sagledavanje i kontrolu uslova i ispravnosti izvođenja radov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)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rstu i količinu prispjelog materijala i produkat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sključeno po novom pravilni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7)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izvođača materijala i produkata;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sključeno po novom pravilni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) postojanje propisanih sertifikata o kvalitetu isporučenog materijala i produkat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) vrstu i položaj radova koji se izvode (pozicija radova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) orijentacionu količinu pojedinih radova koji su izvršen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1) izvršenu kontrolu radova koji su prethodili radovima koji se izvode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kote dna temelja, temeljna jama, podac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 pregledu iskopa temelja, vrsti materijala, predviđenoj nosivosti kao i podaci o sastavu tla ispod kote d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melja, podaci o ispitivanju nosivosti tla, vlažnost i stepen nabijenosti podloga, oplata, armatura i sl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) način ugrađivanja odgovarajućih materijala i produkata (ručno, uz primjenu odgovarajuće mehanizacije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3)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čin njege i zaštite već izvedenih radova (njegovanje betona, zaštita od padavina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4)uzorke materijala koji su dostavljeni na kontrolu sa oznakom položaja radova na koje se odgovarajući uzorak odnos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5) nedostatke ili greške u tehničkoj dokumentaciji ,po kojoj se radovi izvod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6) nepredviđene okolnosti koje zahtijevaju izmjenu postojećih tehničkih rješenja, odnosno povećan obim ugovorenih radova ili izvođenje naknadnih radova (nepredviđena svojstva tla, aktiviranje klizišta, arheološki nalazi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7)podatke o izvršenim inspekcijskim pregledima gradilišta i osnovnim nalazima i nalozima inspekcijskih organa, sa naznakom mjera koje, po tim nalozima, treba preduze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 građevinski dnevnik ulažu se i pismeni nalazi i dokumentacija koja je gradilištu dostavljena od strane investitora, projektanta i drugih lic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8C5D-8DA9-4FA2-AA1F-64EE85E08FF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dzorni organ unosi u građevinski dnevnik podatke, zapažanja i naloge koji se odnose n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tpunost tehničke dokumentacije i dopunska objašnjenja projektan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valitet materijala, instalacija, uređaja, postrojenja i opreme koji se ugrađuju ili postavljaju u objekt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tojanje atesta, sertifikata i druge dokumentacije kojima se dokazuje kvalitet materijala, instalacija, uređaja, postrojenja i opreme za materijal i proizvode koji se ugrađuj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valitet i postupak izvođenja pojedinih radova, kao i međusobnu usaglašenost sa ostalim radov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avještavanje investitora o nedostacima u tehničkoj dokumentaciji, građenju objekta suprotno tehničkoj dokumentaciji, propisima, standardima i normama kvaliteta, kao i o preduzetim odgovarajućim mje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ršeni pregled radova koji se prema prirodi i dinamici izgradnje objekta ne mogu provjeriti u kasnijim fazama izgradnje objekta (radovi na izvođenju temelja, oplate, armature, izolacija i d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love i postupak izmjene tehničke dokumentacije i odobravanja izvođenja viška ugovorenog, odnosno naknadnih rad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) dopunsku tehničku i drugu dokumentaciju koja je dostavljena izvođaču rado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) rok i dinamiku izvođenja rado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) komentar na primjedbe i zapažanja koja su u građevinski dnevnik upisala ovlašćena lic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1) uslove i preduzete mjere za zaštitu životne sredine i zaštitu susjednih objekta, instalacija, uređaja, postrojenja, opreme i d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) druge primjedbe i zapažanja koja smatra korisnim za usmjeravanje daljeg procesa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Osim ovog pravilnika i Pravilnikom o sadržini i načinu vršenja stručnog nadzora definisano je šta nadzorni inženjer upisuje u dnevn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Nadzorni inženjer tokom vršenja stručnog nadzora upisuje u građevinski dnevnik: radove nad kojim vrši stručni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nadzor, uočene nedostatke pri izvođenju radova, mjere koje je preduzeo i naložio izvođaču radova da preduzme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rokove koje je nadzorni inženjer dao za njihovo otklanjanje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 primjedbe u pogledu kvaliteta i dinamike građenja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i druge podatke koji su bitni za praćenje toka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3B14B-C988-451D-941D-08734B16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67EF-D2A7-4AEF-AC4E-876B5E9C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05D62-BE51-4420-8A16-7E229781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B3A9D-67CB-459F-B8FA-1C98431A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D689-AFA8-4449-BC05-D66F22D7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4B28-078B-4014-AD02-97D37744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D4E9-F0E3-4DC3-BB87-3478D7F8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3D11-65C8-4AE7-A88A-EE5849BB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40A5-761E-43C2-A955-2A5611FC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DC97-057A-4FD3-8134-4709541B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2C15-6FC9-4C86-B4D3-98F4D4A0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152A3-1294-4E01-AB9A-7A75E0A2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DC31-70E5-42B9-90DE-94982DAD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F1C1-4687-4974-8040-64915361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9C56-54DE-4B3D-BBD2-48DC4DCF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C19C-4078-400F-ADCD-646EA2BC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946C-B474-4FC9-A5D5-203A7A8A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706A2-B5A5-49FF-BB2E-CBE1757C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4A14F-98A4-4357-B7BC-322C7BCF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7EFA-1863-4DD2-ABBC-DC86A37B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4272F-1C34-4B5C-AC21-22490C05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CD190-D385-43F9-BC0E-728F2BD0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982EF-BD51-48FF-9AEB-A9A2DFF6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51164-D224-4302-BE33-B5E11533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52E2-6CF8-4465-8C54-5D02011AF387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256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1031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1032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1033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34"/>
            <p:cNvSpPr/>
            <p:nvPr/>
          </p:nvSpPr>
          <p:spPr>
            <a:xfrm>
              <a:off x="1786320" y="1447920"/>
              <a:ext cx="11196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035"/>
            <p:cNvSpPr/>
            <p:nvPr/>
          </p:nvSpPr>
          <p:spPr>
            <a:xfrm>
              <a:off x="1538640" y="1447920"/>
              <a:ext cx="11196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036"/>
            <p:cNvSpPr/>
            <p:nvPr/>
          </p:nvSpPr>
          <p:spPr>
            <a:xfrm>
              <a:off x="1290960" y="1447920"/>
              <a:ext cx="11196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037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038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039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40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041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042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043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044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45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104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702E-1D80-4629-AE37-7370273A41F5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60640" y="1371600"/>
            <a:ext cx="7823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D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ZAKO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KA AKTA NA OSNOVU ZAKONA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O PLANIRANJU  PROSTORA I IZGRADNJI OBJEK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200" spc="-1" strike="noStrike">
                <a:solidFill>
                  <a:srgbClr val="ffffff"/>
                </a:solidFill>
                <a:latin typeface="Arial"/>
              </a:rPr>
              <a:t>dio 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A KNJI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ument koji služi za obračun izvršenih radova i sadrž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ličine izvršenih radova, kontrolisane i potpisane od strane stručnog nadzor 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jedinične mjer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jedinične cijen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računske nacrte u skladu sa ugovorenim predmjerom i predračun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tokom građenja za gradilište u cjelini, 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600" spc="-1" strike="noStrike">
                <a:solidFill>
                  <a:srgbClr val="ffffff"/>
                </a:solidFill>
                <a:latin typeface="Arial"/>
              </a:rPr>
              <a:t>može posebno da se vodi i za pojedinačne faze, odnosno tehničke i/ili funkcionalne cjeline koje su sastavni dio objekta u cjelini (most, tunel, dionica puta, djelovi turističkog naselja i drugo), odnosno za izvođenje pojedinih vrsta radova na: izradi tehničkih i/ili funkcionalnih sklopova van mjesta ugradnje, ugradnji opreme, radovima pojedinih izvođača radova i drugo, i/ili za radove koji zahtijevaju specifičnu organizaciju građenja</a:t>
            </a: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od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na početka pripremnih radova do dana završetka građenja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spravka se vrši povlačenjem crte preko pogrešnog upisa, nakon čega se unosi ispravka sa potpisom glavnog inženj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A KNJIGA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građevinsku knjigu unose se sljedeći podac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unošenja podata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im radova po pozicija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pis izvršenih radova sa potrebnim skica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računske skic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sebne i značajne detalje u vezi izvođenja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mjene projekta (datum i ime lica koje je naložilo izmjene)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 drugim okolnostima pod kojima se izvode radovi, a od značaja su za sagledavanje i kontrolu obračuna obima i uslova izvođenja radov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SADRŽAJU ELABORATA O PRIPREMNIM RADOVIMA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. list CG 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0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SADRŽAJU ELABORATA O PRIPREMNIM RADOV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rafički dio- šema organizacije gradilišta (1:200 do 1:1000), sadrž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objekta na kome se izvode radovi i situaciju zatečenih objekata unutar gradilišt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jesto za dizalicu,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adni položaj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ašin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se postavljaju na objekat ili neposredno uz njega,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 ucrtanim manevarskim i manipulacionim prosto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lokacije privremenih objekata sa mjerama za siguran prilaz pri korišćenju i održavanj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jesta za materijal, skladišta, deponije, gradilišne priključk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trase bezbjednih saobraćajnica, staza za kretanje zaposlenih i pristupnih puteva gradiliš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mjesta za parkiranje, opravku i održavanje vozila i mehanizacije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a radionicama, magacinima i uređajima i mjerama za sigurno korišće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skladišta tečnih goriva, tehničkih gasova i zapaljivih materijala sa mjerama za sigurno korišćenje i održava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objekata, vodova i električnih instalacija  i rasvjete, sa mjerama zaštite od opasnog dejstva električne stru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režu pitke, tehničke i otpadnih voda sa objektima i uređajima za korišćenje i održavanje i mjere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prječavanje pristupa nepoželjnih lic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kaz sanitarnih objekata postavljenih na lokacijama koje obezbjeđuju siguran pristup, korišćenje 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žavanje i mjere za sprječavanje zagađenja okolin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ranice gradilišnog područja, odnosno kruga gradilišta sa znacima opasnosti i mjerama za sprječavanje pristupa nezaposlenim licima, životinjama, vozilima koje ne pripadaju gradilištu i vrstu ogra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SADRŽAJU ELABORATA O PRIPREMNIM RADOV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Tekstualni dio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pis i bliže određivanje mjera prikazanih u šemi organizacije gradiliš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tehnički izvještaj sa redosledom i opisom načina i organizacije izvođenja radov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sadržaj i obim istraživanja terena prije početka radova, ukoliko se gradilište ili njegov dio nalaze na nekadašnjem ratnom poprišt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čin obezbjeđenja gradilišta koje se ne može u potpunosti ograditi i postavljanje prepreka na prilazima s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znacima upozorenja i opasnosti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mjere zaštite nezaštićenih djelova susjednih objekata, električnih kablova pod naponom, cjevovoda pod pritiskom, prolaza i mjesta rada zaposlenih i javnih saobraćajnica koje se nalaze u manipulacionom prostoru dizalice (prostor ograničen najvišim i najnižim položajem zahvatnog sredstva kao i njegovim </a:t>
            </a:r>
            <a:r>
              <a:rPr b="0" lang="pl-PL" sz="1300" spc="-1" strike="noStrike">
                <a:solidFill>
                  <a:srgbClr val="ffffff"/>
                </a:solidFill>
                <a:latin typeface="Arial"/>
              </a:rPr>
              <a:t>krajnjim položajima na oba kraja dizalične staze, ukoliko ova postoji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način usmjeravanja saobraćaja i pješaka na bezbjednu stranu ili postavljanje zaštitne ograde oko ugroženog prostora, odnosno podizanje zaštitne zapreke u slučaju kad se ne može izbjeći kretanje djelova sredstava za rad izvan gradilišnog prostora (manevarski prostor sredstava za rad izlazi izvan gradilišnog prostora), s tim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se zaštitne zapreke za zaštitu od padajućih djelova izrađuju na osnovu projekta koji sadrži statičk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proračun, crteže za izvođenje, uputstvo za montažu i demontažu i opis mjera za pravilno usmjeravanje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saobraćaja, signalizacija i osvjetljenje u toku upotreb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način postavljanja konstrukcija za zaštitu od obrušavanja zemljanog materijala i drugih deformacija tla ili za zaštitu od nepovoljnog dejstva površinskih i podzemnih voda kod radova u iskopi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mjere u slučaju rušenja objekata koji se nalaze na lokaciji za izvođenje pripremnih radov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mjere u slučaju prekida radova (sprečavanje prilaza gradilištu nezaposlenim licima, životinjama i saobraćajnim sredstvima)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c000"/>
                </a:solidFill>
                <a:latin typeface="Arial"/>
              </a:rPr>
              <a:t>PRAVILNIK O NAČINU I POSTUPKU IZDAVANJA, MIROVANJA LICENCE I NAČINU VOĐENJA REGISTARA LICENCI (Sl.list CG 79/17, 78/21 i 102/2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Vrst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Licenca z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obavljanje djelatnosti izrade tehničke dokumentacije i građenja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privredno društvo, pravna lica, odnosno preduzetni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fizičko l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obavljanje djelatnosti revizije tehničke dokumentacije i stručnog nadzora nad građenjem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privredno društvo, pravna licima, odnosno preduzetni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fizičko lice (za porodične stamb. zgrade, za ostale objek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e se izdaju  u skladu sa odgovarajućom strukom </a:t>
            </a:r>
            <a:r>
              <a:rPr b="0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i specijalističkim smjerom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shodno dokazu o visokom obrazovanju, za sljedeće djelatnosti: arhitektonsku, građevinsku; elektrotehničku; mašinsk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Za strano fizičko lice se u postupku izdavanja licence ovlašćenog inženjera provjerava da li podnosilac zahtjeva ima dozvolu boravka u skladu sa zakonom kojim se uređuje zapošljavanje i rad strana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Postupak izdavanja lic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odnošenje zahtjeva organu uprave nadležnom za poslove planiranja prostora (obrasci zahtjeva su propisan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odnošenje dokumentacije uz zahtje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cjena ispunjenosti propisanih uslova za sticanje 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šenje rješenja o utvrđivanju ispunjenosti uslova za sticanje 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izdavanje 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vođenje registra licenc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9880" y="1915920"/>
            <a:ext cx="10742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ovlašćenog inženjera (</a:t>
            </a: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fizičkom licu za obavljanje djelatnosti izrade tehničke dokumentacije i građenja objek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li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e karte, odnosno pasoš za strano lic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diplome o stru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oj spremi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(i priznavanje inostrane diplom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o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godinama iskustva i 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otrebno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adn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iskustv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(sa VII1 nivoom obrazovanj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okaz o najmanje </a:t>
            </a: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odine radnog iskustva na izradi tehničke dokumentacije i/ili građenju objekta (kopija radne knjižice/ugovora u skladu sa zakonom o radu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okaz o najmanje tri godine radnog iskustva na izradi tehničke dokumentacije i/ili građenju objekta u svojstvu saradnika (hronološki opis i popis stručnih poslova koje je podnosilac zahtjeva obavljao kao saradnik na izradi tehničke dokumentacije i/ili građenju objekata, ovjeren od poslodavca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c000"/>
                </a:solidFill>
                <a:latin typeface="Arial"/>
              </a:rPr>
              <a:t>dokaz o položenom stručnom ispi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c000"/>
                </a:solidFill>
                <a:latin typeface="Arial"/>
              </a:rPr>
              <a:t>dokaz o članstvu u Komo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500" spc="-1" strike="noStrike">
                <a:solidFill>
                  <a:srgbClr val="ffffff"/>
                </a:solidFill>
                <a:latin typeface="Arial"/>
              </a:rPr>
              <a:t>za  revizora (</a:t>
            </a:r>
            <a:r>
              <a:rPr b="0" i="1" lang="sr-Latn-ME" sz="1500" spc="-1" strike="noStrike">
                <a:solidFill>
                  <a:srgbClr val="ffffff"/>
                </a:solidFill>
                <a:latin typeface="Arial"/>
              </a:rPr>
              <a:t>fizičkom licu za obavljanje djelatnosti revizije tehničke dokumentacije i stručni nadzor nad građenjem objekt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li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ne kart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uvjerenje o crnogorskom državljanstv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licenca ovlašćenog inženjer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c000"/>
                </a:solidFill>
                <a:latin typeface="Arial"/>
              </a:rPr>
              <a:t>dokaz o najmanje </a:t>
            </a:r>
            <a:r>
              <a:rPr b="1" lang="sr-Latn-ME" sz="1500" spc="-1" strike="noStrike" u="sng">
                <a:solidFill>
                  <a:srgbClr val="ffc000"/>
                </a:solidFill>
                <a:uFillTx/>
                <a:latin typeface="Arial"/>
              </a:rPr>
              <a:t>7 </a:t>
            </a:r>
            <a:r>
              <a:rPr b="1" lang="vi-VN" sz="1500" spc="-1" strike="noStrike" u="sng">
                <a:solidFill>
                  <a:srgbClr val="ffc000"/>
                </a:solidFill>
                <a:uFillTx/>
                <a:latin typeface="Arial"/>
              </a:rPr>
              <a:t>godina radnog iskustva </a:t>
            </a:r>
            <a:r>
              <a:rPr b="0" lang="vi-VN" sz="1500" spc="-1" strike="noStrike">
                <a:solidFill>
                  <a:srgbClr val="ffc000"/>
                </a:solidFill>
                <a:latin typeface="Arial"/>
              </a:rPr>
              <a:t>na izradi tehničke dokumentacije i/ili građenju objekta u svojstvu ovlašćenog inženjera</a:t>
            </a: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 , </a:t>
            </a:r>
            <a:r>
              <a:rPr b="0" lang="vi-VN" sz="1500" spc="-1" strike="noStrike">
                <a:solidFill>
                  <a:srgbClr val="ffc000"/>
                </a:solidFill>
                <a:latin typeface="Arial"/>
              </a:rPr>
              <a:t>odnosno radno iskustvo u svojstvu odgovornog projektanta, vodećeg projektanta, odgovornog vršioca revizije, vodećeg vršioca revizije, odgovornog inženjera, glavnog inženjera, nadzornog inženjera i glavnog nadzornog inženjera (hronološki opis i popis stručnih poslova koje je podnosilac zahtjeva obavljao </a:t>
            </a:r>
            <a:r>
              <a:rPr b="1" lang="vi-VN" sz="1500" spc="-1" strike="noStrike" u="sng">
                <a:solidFill>
                  <a:srgbClr val="ffc000"/>
                </a:solidFill>
                <a:uFillTx/>
                <a:latin typeface="Arial"/>
              </a:rPr>
              <a:t>u svojstvu ovlašćenog inženjera </a:t>
            </a:r>
            <a:r>
              <a:rPr b="0" lang="vi-VN" sz="1500" spc="-1" strike="noStrike">
                <a:solidFill>
                  <a:srgbClr val="ffc000"/>
                </a:solidFill>
                <a:latin typeface="Arial"/>
              </a:rPr>
              <a:t>ovjeren od poslodavca</a:t>
            </a: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c000"/>
                </a:solidFill>
                <a:latin typeface="Arial"/>
              </a:rPr>
              <a:t>dokaz o položenom stručnom ispit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c000"/>
                </a:solidFill>
                <a:latin typeface="Arial"/>
              </a:rPr>
              <a:t>dokaz o članstvu u Komo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900" spc="-1" strike="noStrike">
                <a:solidFill>
                  <a:srgbClr val="ffffff"/>
                </a:solidFill>
                <a:latin typeface="Arial"/>
              </a:rPr>
              <a:t>Sadržaj ovog dijela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15880" y="1916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PRAVILNIK O NAČINU VOĐENJA I SADRŽINI GRAĐEVINSKOG DNEVNIKA I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GRAĐEVINSKE KNJIGE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(Sl. list CG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 68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/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SADRŽAJU ELABORATA O PRIPREMNIM RADOVIMA (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Sl. list CG 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/0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)</a:t>
            </a:r>
            <a:r>
              <a:rPr b="1" lang="sr-Latn-ME" sz="16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c000"/>
                </a:solidFill>
                <a:latin typeface="Arial"/>
              </a:rPr>
              <a:t>PRAVILNIK O NAČINU I POSTUPKU IZDAVANJA, MIROVANJA LICENCE I NAČINU VOĐENJA REGISTARA LICENCI (Sl.list CG 79/17, </a:t>
            </a:r>
            <a:r>
              <a:rPr b="1" lang="pl-PL" sz="1600" spc="-1" strike="noStrike">
                <a:solidFill>
                  <a:srgbClr val="ffc000"/>
                </a:solidFill>
                <a:latin typeface="Arial"/>
              </a:rPr>
              <a:t>78/21 i 102/21</a:t>
            </a:r>
            <a:r>
              <a:rPr b="1" lang="sr-Latn-ME" sz="1600" spc="-1" strike="noStrike">
                <a:solidFill>
                  <a:srgbClr val="ffc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PROGRAMU I NAČINU POLAGANJA STRUČNOG ISPITA ZA OBAVLJANJE POSLOVA IZRADE TEHNIČKE DOKUMENTACIJE, ODNOSNO GRAĐENJA OBJEKATA (Sl.list CG 100/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OBLIKU I IZGLEDU TABLE ZA GRAĐENJE OBJEKTA (Sl. list CG 70/1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1400" spc="-1" strike="noStrike">
                <a:solidFill>
                  <a:srgbClr val="ffff00"/>
                </a:solidFill>
                <a:latin typeface="Arial"/>
              </a:rPr>
              <a:t>*Slično ovom pravilniku urađeni su i pravilnici o sadržaju elaborata o pripremnim radovima za složene inženjerske objek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</a:t>
            </a:r>
            <a:r>
              <a:rPr b="1" i="1" lang="vi-VN" sz="1600" spc="-1" strike="noStrike">
                <a:solidFill>
                  <a:srgbClr val="ffffff"/>
                </a:solidFill>
                <a:latin typeface="Arial"/>
              </a:rPr>
              <a:t>projektanta i izvođača radova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privredno društvo, pravna lica, odnosno preduzetnic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zvod iz Centralnog registr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ivred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h subjekat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da u radnom odnosu im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lašćenog inženje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. i datum izdavanja licence ovlašćenog inženje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revidenta </a:t>
            </a:r>
            <a:r>
              <a:rPr b="1" i="1" lang="vi-VN" sz="1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stručnog nadzora (</a:t>
            </a: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privredno društvo, pravna lica, odnosno preduzetnici)</a:t>
            </a:r>
            <a:r>
              <a:rPr b="1" i="1" lang="sr-Latn-CS" sz="16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zvod iz Centralnog registr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ivred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h subjekat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da u radnom odnosu ima 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zaposlen</a:t>
            </a:r>
            <a:r>
              <a:rPr b="0" lang="sr-Latn-ME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e 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revizor</a:t>
            </a:r>
            <a:r>
              <a:rPr b="0" lang="sr-Latn-ME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e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 za </a:t>
            </a:r>
            <a:r>
              <a:rPr b="0" lang="sr-Latn-ME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propisane vrste 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projekata (arhitektonski, građevinski, elektrotehnički i mašinski)</a:t>
            </a:r>
            <a:r>
              <a:rPr b="0" lang="sr-Latn-ME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 u zavisnosti od vrste objekata, prema članu 124. Zakona o planiranju i izgradnji objekata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. i datum izdavanj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licenc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zaposlenih revizo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99880" y="2637000"/>
            <a:ext cx="1000908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irovanje 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ko nastup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kolnosti zbog kojih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fizičko lice nije u mogućnosti da obavlja djelatnost za određeni period.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na zahtjev imaoca licence odr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đuje s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mirovanje prava i obaveza iz licenc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Ministarstvo rješenjem  određuje mirovanje licenc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c000"/>
                </a:solidFill>
                <a:latin typeface="Arial"/>
              </a:rPr>
              <a:t>Registar licenci se vodi u elektronskoj form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105000" y="552240"/>
            <a:ext cx="7391520" cy="13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Mirovanje licenci i </a:t>
            </a:r>
            <a:r>
              <a:rPr b="1" lang="sr-Latn-ME" sz="2000" spc="-1" strike="noStrike">
                <a:solidFill>
                  <a:srgbClr val="ffc000"/>
                </a:solidFill>
                <a:latin typeface="Arial"/>
              </a:rPr>
              <a:t>registar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PROGRAMU I NAČINU POLAGANJA STRUČNOG ISPITA ZA OBAVLJANJE POSLOVA IZRADE TEHNIČKE DOKUMENTACIJE, ODNOSNO GRAĐENJA OBJEKATA (Sl.list CG 100/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9880" y="1680840"/>
            <a:ext cx="1074240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Ko ima pravo da polaže - Lice koje ispunjava uslove iz člana 123 Zakona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sjeduje najmanje kvalifikaciju VII1 podnivoa okvira kvalifikacija 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najmanje tri godine radnog iskustva na stručnim poslovima izrade tehničke dokumentacije i/ili građenja objekta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dnosi prijavu Komori uz dokumentaciju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kopiju lične karte ili pasoš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iplomu ili uvjerenje o završenim akademskim????? studija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tvrdu o radnom iskustvu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Komora kontroliše dokumentaciju i donosi rješenje o ispunjenosti uslova za polaganje stručnog ispita, u roku od 15 dana od dana prijema zahtjev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ije polaganja (najmanje 15 dana ranije)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edsjednik Komisije određuje datum, vrijeme i mjesto polaganj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ekretar Komisije objavljuje spisak kandidata koji će polagati stručni ispit u određenom roku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spit se polaže pred komisijom za polaganje stručnog ispita, čiji je sastav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edsjednik (imenuje ga Komor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va člana (jednog menuje Komora, a jednog Ministarstvo nadležno za građevinarstvo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ekretara ( pravnik, imenuje ga Komor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tručni ispit se polaže usmeno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cjena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ložio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nije položio (može ponovo polagati stručni ispit, u narednom ispitnom roku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U toku polaganja se vodi zapisnik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Na osnovu zapisnika Komora izdaje uvjerenje o položenom stručnom ispit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00"/>
                </a:solidFill>
                <a:latin typeface="Arial"/>
              </a:rPr>
              <a:t>…</a:t>
            </a: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Program stručnog ispita obuhvata poznavanj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9880" y="1628280"/>
            <a:ext cx="1074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Zakona o planiranju prostora i izgradnji objekata i podzakonskih akata donijetih na osnovu ovog zakon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šta podzakonska a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revizije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obliku i izgledu table za građenje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 postupku osmatranja tla i objekta u toku građenja i upotreb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spitivanja, načinu izrade i sadržaju analize statičke i seizmičke stabilnosti bespravnog objekta površine do 500 m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dzakonska akta iz oblasti ENERGETIK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zrade i bližoj sadržini tehničke dokumentaci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revizi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sadržaju elaborata pripremnih radova za građen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obavljanja stručnog nadzora složenog inženjerskog objek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tehničkog pregleda složenih inženjerskih objekata za proizvodnju, prenos i distribuciju električne i toplotne energij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rogram stručnog ispita obuhvata poznavanj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9880" y="1628280"/>
            <a:ext cx="1074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dzakonska akta iz oblasti SAOBRAĆAJ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složene inženjerske objekt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revizije složenog inženjerskog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sadržaju elaborata o pripremnim radovima za složene inženjerske objekte saobraćajne infrastruk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obavljanja stručnog nadzora složenog inženjerskog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tehničkog pregleda složenih inženjerskih objek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Zakona o građevinskim proizvodima i podzakonskih akata donijetih na osnovu ovog zakon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Uredba o načinu priznavanja inostranih isprava i znakova za građevinske proizvod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listi usaglašenih standarda za građevinske proizvod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klasifikaciji gradjevinskih proizvoda u odnosu na njihove reakcije i otpornost na poža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obliku i sadržaju dokumenta o tehničkoj ocjeni i načinu vođenja evidencije; izdatih dokumenata o tehničkoj ocjeni građevinskog proizvod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OBLIKU I IZGLEDU TABLE ZA GRAĐENJE OBJEKTAI (Sl. list CG 70/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OBLIKU I IZGLEDU TABLE ZA GRAĐENJE OBJEKAT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26800" y="1936800"/>
            <a:ext cx="100090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blik table, materijali i bo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avougaoni obli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3 veličine u zavisnosti od objekta (složeni inženjerski objekti, ostali objekti, pomoćni i privremen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aterijal – četvrtasti željezni profili i pocinčani lim na nosačima fundiranim u bet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boja oranž  (za složene inž. objekte) i  žuta (za osta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Mjesto postavljan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idnom i pristupačnom mjes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 desnoj strani od glavnog ulaza u gradilište, neposredno izvan ograde gradilišta i osvjetljava se zasebnim reflektorskim osvjetljenj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OBLIKU I IZGLEDU TABLE ZA GRAĐENJE OBJEKATA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adržaj tabl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50440" y="1844640"/>
            <a:ext cx="1116180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3D vizuelizacija objekta, odnosno prikaz trase infrastrukturnog objekta (1/3 površine table u gornjem lijevom uglu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, namjena i veličina (spratnost i BGP) objekt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broj urbanističke parcele/lokaciju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i adresa investitor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je izradilo tehničku dokumentaciju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ovlašćenog inženjera koji je rukovodio izradom cjelokupne tehničke dokumentacij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je revidovalo tehničku dokumentaciju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revizora koji je rukovodio revizijom cjelokupne tehničke dokumentacij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izvođača radova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ovlašćenog inženjera koje rukovodi građenjem objekta u cjelini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vrši stručni nadzor nad građenjem objekta u cjelini,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revizora koji rukovodi stručnim nadzorom nad građenjem objekta u cjelini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datum prijave radova građenja objekta nadležnom inspekcijskom organu i utvrđeni rok za završetak radova (izuzev za složene inženjerske objekte); 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broj saglasnosti glavnog državnog odnosno glavnog gradskog arhitekte na idejno rješenje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 (Sl. list CG 68/1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bavezna dokumentacija na gradilištu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e se za objekat koji se gradi na osnovu prijave građenja, odnosno  za složeni inženjerski objekat koji se gradi na osnovu građevinske dozvol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vodi ih glavni inženjer izvođača radov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tke upisuju i potpisom ovjerava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lavni inženjer  i ovlašćeni inženje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lavni revizor i revizori koji vrše nadz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e se u obliku povezane i pečatom izvođača radova i stručnog nadzora ovjerene sveske sa dvostruko numerisanim stranama (original i kopija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riginale izvođač čuva trajno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pija treba da se dostavi investitoru sa konačnim izvještajem o vršenju stručnog nadzora (čuvaju se trajn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is podataka vrši se hemijskom olovk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oraju biti dostupne investitoru, nadzoru, vodećem i odgovornim projektantima i organima nadležnim za poslove inspekcij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ument kojim se evidentiraju dnevne aktivnosti na građenju objekta i kojim se dokazuje usklađenost uslova i načina građenja objekta, odnosno izvođenja pojedinih radova na osnovu revidovanog glavnog projekta, Zakona o planiranju prostora i izgradnji objekata, posebnih propisa i pravila struk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tokom građenja za objekat u cjelini, 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izvođač radova može da vodi i posebni građevinski dnevnik za pojedinačne faze, odnosno tehničke i/ili funkcionalne cjeline koje su sastavni dio objekta u cjelini (most, tunel, dionica puta, djelovi turističkog naselja), odnosno za izvođenje pojedinih vrsta radova na: izradi tehničkih i/ili funkcionalnih sklopova van mjesta ugradnje, ugradnji opreme, radovima izvođača pojedinih vrsta radova na građenju objekta, i/ili za radove koji zahtijevaju specifičnu organizaciju građenja (sastavni djelovi građevinskog dnevnik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od dana izvođenja pripremnih radova na objektu do završetka svih radova i stavljanja objekta u upotrebu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daci upisani u građevinski dnevnik, ne mogu se brisati, ispravljati, naknadno mijenjati, ni dopunjavat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mjene i dopune podataka upisanih u građevinski dnevnik, vrše se isključivo kao novi upisi, uz obavezno navođenje datuma upi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dnevnika za građenje objekta u cjel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zvođaču radova (naziv i sjedište, registarsk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nvestitoru (naziv i sjedište, odnosno ime i adresu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oj i datum prijave građenja, odnosno građevinske dozvole u skladu sa kojom se objekat grad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rsta objekta koji se grad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vlašćenom inženjeru koji rukovodi građenjem objekta u cjelini ( glavni inženjer) (ime i prezime i broj i datum izdavanja licenc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stručnom nadzoru (naziv i sjedište, registracion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revizoru koji rukovodi stručnim nadzorom objekta u cjelini ( glavni revizor) (ime i prezime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stalim revizorima na objektu (ime i prezime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početka odnosno datum završetka vođenja građevinskog dnevni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svih izvođača pojedinih vrsta radova na građenju objekta sa podacima (naziv i sjedište, registarski broj, broj i datum izdavanja licence) i broj i datum ugovora zaključenih sa izvođačima za pojedine vrste radov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posebnih dijelova građevinskog dnevnik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posebnih dijelova građevinskog dnevn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zvođaču radova (naziv i sjedište, registarsk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nvestitoru (ime/naziv i adresu/sjedišt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objekta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pojedinačne faze, tehničkog i/ili funkcionalnog sklopa odnosno vrst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vlaščenom inženjeru koji rukovodi građenjem pojedinačne faze, tehničkog i/ili funkcionalnog sklopa odnosno vrste radova  (ime i prezime i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stručnom nadzoru (naziv i sjedište, registracion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revizoru koji rukovodi stručnim nadzorom pojedinačne faze, tehničkog i/ili funkcionalnog sklopa odnosno vrst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tci o svim revizorima na pojedinačnoj fazi, tehničkom i/ili funkcionalnom sklopu odnosno vrsti radova (ime i prezime, broj i datum izdavanja licence)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početka odnosno datum završetka vođenja posebnog dijela građevinskog dnevnik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svih izvođača pojedinih vrsta radova na građenju pojedinačne faze, tehničkog i/ili funkcionalnog sklopa odnosno vrste radova sa podacima (naziv i sjedište, registarski broj, broj i datum izdavanja licence) i broj i datum ugovora zaključenih sa izvođačima za pojedine vrste radov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pisi od strane glavnog inženjera, odnosno ovlašćenih inženj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klimatskim i dr. uslovima na gradilištu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datum, vremenske prilike, radno vrijeme, angažovana radna snaga i mehanizacija, druge bitne okolnosti i usl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projektima i izmjenam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datum dostavljanja revidovanog glavnog projekta, podaci o izmjenama projekta, nedostaci ili greške u projektu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građevinskim proizvodima: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isporuci i porijeklu proizvoda i opreme koja se ugrađuje sa dokazima o njihovoj upotrebljivosti,  dokazi o upotrebljivosti ugrađenih građevinskih proizvoda, instalacija i opreme, izdati od strane ovlašćenog l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radovima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vrsta i položaj radova koji se izvode, orijentacionai obim izvršenih radova,  prethodno izvršene kontrole,način ugrađivanja, način njege i zaštite, uzorci materijala za kontrol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ostali podaci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drugim okolnostima koje su od značaja za izvođenje radova (kontrola uslova i ispravnosti izvođenja radova)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nepredviđenim okolnostima koje zahtijevaju izmjenu projekta, odnosno povećan obim ugovorenih radova ili izvođenje viška radova i naknadnih radova (nepredviđena svojstva tla, aktiviranje klizišta, arheološki nalazi i dr.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inspekcijskim pregledima gradilišta, podaci o pismenim nalozima i dokumentaciji na gradilištu, podaci o promjenama  ućesnika i njihovih odnosa i sl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ilaže se i pisana dokumentacija dostavljena od investitora, projektanta, revizora koji vrši stručni nadzor i nadležnog inspektor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01400" y="595440"/>
            <a:ext cx="9347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pisi od strane glavnog revizora i revizora (lica koje vrše stručni nadzor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tehničkoj dokumentaciji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slove i postupak izmjene projek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dopunsku tehničku i drugu dokumentaciju koja je dostavljena izvođaču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materijalima i radovim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cje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usklađenosti pregledanih izvedenih radova sa zahtjevima iz revidovanog glavnog projekta, zakona i posebnih propi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eđivanje sprovođenja kontrolnih postupak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o rezultatima kontrolnih postupaka sa komentarom o usklađenosti tih rezultata sa rezultatima koji se očekuju prema revidovanom glavnom projek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jere koje preduzima u kojima odobrava ili zabranjuje nastavak radova, odnosno odobrava ili određuje način otklanjanja utvrđenih nepravilnost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jem pojedinačnih faza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ok i dinamika izvođenja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stali podaci, zapažanja i naloz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tvrđivanje usklađenost iskolčenja sa revidovanim glavnim projektom i odobrav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je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četk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izvođenja radova na objek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bavještavanje nadležnog inspekcijskog organa o početku prijema određene faze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bavještavanje nadležnog inspekcijskog organa o građenju objekta suprotno revidovanom glavnom projektu, zakonu, posebnim propisima i pravilima struk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komentar na primjedbe i zapažanja koja su u građevinski dnevnik upisal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 glavni i ovlašćeni inženjer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ruge primjedbe i zapaža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dcterms:modified xsi:type="dcterms:W3CDTF">2022-10-03T20:12:53Z</dcterms:modified>
  <cp:revision>217</cp:revision>
  <dc:subject/>
  <dc:title>ZAKON O IZGRADNJI OBJEKATA</dc:title>
</cp:coreProperties>
</file>